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884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532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8840" y="944532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7508-378A-489F-B24D-35BDE74BF0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3400" cy="3728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59200" y="944568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E74C-B272-49FD-80CF-E7F7780F39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C1F-8EC3-4BB9-AD3B-FE06AF1D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54D-82A8-4B25-9348-914154DC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65F-3C40-47B0-B865-0420EE90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C64-2449-43D6-B125-E935625C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790D-0833-45EC-A605-D22374DD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2F9E-0EB7-4C78-AD2F-8BFAD17F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523E-D495-4382-A0A4-531F04B0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294F-CFF5-4C3B-93FC-C698D52C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98E3-3AD1-4C68-B402-1C44DAC8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E8FC-CCAC-4887-ADB8-53FEB6D1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EA42-AA56-49FC-90DF-F0374669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555-F7FA-4E07-8E5E-66C2882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0365-9628-4D1B-BED0-D7499414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1DDA-E71A-43F8-8EC0-F5AA1732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7EDB-F6E1-4EA0-9F51-722E5A96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763B-613B-45B6-A94E-4D5735B4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C94B-6B14-4A5A-A738-256ED8A5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EC8-052A-4C34-A69A-FA639949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0C7-4CEF-47F8-8193-0130FCEA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3FF-D4C5-4D33-A9AC-0CBD0793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E73-DC19-4EDB-BDE3-E6F8D0F9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6EB-7DAD-497C-8D9B-1952A104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274-8A65-4646-A28A-22F30F1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9AB-3134-45A6-AB80-C34795C9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A0CD-E1C3-4C98-8CE0-502D066593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C97A-5C56-482D-B8C5-E36BF600DC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6D55-4F07-4016-964D-8131CD4DCD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ADC2-F2C0-4E36-B8DC-21E6A55D1A5B}" type="slidenum">
              <a: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3214800" y="6000840"/>
            <a:ext cx="30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катерин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071960" y="4000680"/>
            <a:ext cx="47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Заместитель начальника отдела государственного воспитания и коррекции, руководитель ЦПМПК Деникаева Ольга Валериановна</a:t>
            </a:r>
            <a:r>
              <a:rPr b="0" i="1" lang="en-US" sz="2000" spc="-1" strike="noStrike">
                <a:solidFill>
                  <a:srgbClr val="1f497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89000" y="1427040"/>
            <a:ext cx="8723160" cy="2578320"/>
            <a:chOff x="189000" y="1427040"/>
            <a:chExt cx="8723160" cy="257832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89000" y="1427040"/>
              <a:ext cx="8723160" cy="25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82680" y="1617840"/>
              <a:ext cx="8334360" cy="21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ahoma"/>
                </a:rPr>
                <a:t>Об организации психолого-педагогической, медицинской и социальной помощи  обучающимся, испытывающим трудности в освоении образовательных программ, развитии и социальной адап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"/>
          <p:cNvSpPr/>
          <p:nvPr/>
        </p:nvSpPr>
        <p:spPr>
          <a:xfrm>
            <a:off x="1208160" y="150840"/>
            <a:ext cx="739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инистерство общего и профессионального образования Свердл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5" name="Прямая со стрелкой 40"/>
          <p:cNvCxnSpPr>
            <a:stCxn id="166" idx="2"/>
          </p:cNvCxnSpPr>
          <p:nvPr/>
        </p:nvCxnSpPr>
        <p:spPr>
          <a:xfrm>
            <a:off x="6071760" y="5535360"/>
            <a:ext cx="1080" cy="77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67" name="Прямоугольник 7"/>
          <p:cNvSpPr/>
          <p:nvPr/>
        </p:nvSpPr>
        <p:spPr>
          <a:xfrm>
            <a:off x="7380360" y="4714920"/>
            <a:ext cx="1549440" cy="128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Центры координации» в округах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право 18"/>
          <p:cNvSpPr/>
          <p:nvPr/>
        </p:nvSpPr>
        <p:spPr>
          <a:xfrm rot="10800000">
            <a:off x="6870240" y="5702400"/>
            <a:ext cx="514440" cy="3571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284120" y="2541600"/>
            <a:ext cx="2214720" cy="142884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сихолого-педагогические вузы, Федерация психологов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трелка влево 12"/>
          <p:cNvSpPr/>
          <p:nvPr/>
        </p:nvSpPr>
        <p:spPr>
          <a:xfrm>
            <a:off x="3500280" y="292896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лево 13"/>
          <p:cNvSpPr/>
          <p:nvPr/>
        </p:nvSpPr>
        <p:spPr>
          <a:xfrm rot="18971400">
            <a:off x="3536640" y="406044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1886040" y="5535720"/>
            <a:ext cx="2703600" cy="522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меди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лево 14"/>
          <p:cNvSpPr/>
          <p:nvPr/>
        </p:nvSpPr>
        <p:spPr>
          <a:xfrm rot="16200000">
            <a:off x="5095080" y="4048920"/>
            <a:ext cx="882720" cy="3571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лево 15"/>
          <p:cNvSpPr/>
          <p:nvPr/>
        </p:nvSpPr>
        <p:spPr>
          <a:xfrm rot="13287000">
            <a:off x="7455960" y="4006440"/>
            <a:ext cx="1482840" cy="357120"/>
          </a:xfrm>
          <a:prstGeom prst="leftArrow">
            <a:avLst>
              <a:gd name="adj1" fmla="val 54759"/>
              <a:gd name="adj2" fmla="val 5001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4960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Модель организации взаимодействия  учреждений образования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в системе  психолого-педагогической , медицинской и социальной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249200" y="1413000"/>
            <a:ext cx="7570800" cy="90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развития психолого-педагогической , медицинской и социальной 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4000680" y="2571840"/>
            <a:ext cx="2286000" cy="1428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щего и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6595920" y="2571840"/>
            <a:ext cx="2428920" cy="1500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БОУ СО ЦППРиК «Ла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5214960" y="4714920"/>
            <a:ext cx="1714320" cy="820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МС-центры дей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трелка вверх 10" descr=""/>
          <p:cNvPicPr/>
          <p:nvPr/>
        </p:nvPicPr>
        <p:blipFill>
          <a:blip r:embed="rId2"/>
          <a:stretch/>
        </p:blipFill>
        <p:spPr>
          <a:xfrm>
            <a:off x="-30240" y="1554120"/>
            <a:ext cx="1133640" cy="4602240"/>
          </a:xfrm>
          <a:prstGeom prst="rect">
            <a:avLst/>
          </a:prstGeom>
          <a:ln w="0">
            <a:noFill/>
          </a:ln>
        </p:spPr>
      </p:pic>
      <p:sp>
        <p:nvSpPr>
          <p:cNvPr id="180" name="Стрелка влево 11"/>
          <p:cNvSpPr/>
          <p:nvPr/>
        </p:nvSpPr>
        <p:spPr>
          <a:xfrm>
            <a:off x="428760" y="4929120"/>
            <a:ext cx="1393560" cy="10717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Двойная стрелка влево/вправо 16"/>
          <p:cNvSpPr/>
          <p:nvPr/>
        </p:nvSpPr>
        <p:spPr>
          <a:xfrm>
            <a:off x="6072120" y="3000240"/>
            <a:ext cx="642960" cy="285840"/>
          </a:xfrm>
          <a:prstGeom prst="left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4bacc6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войная стрелка влево/вправо 19"/>
          <p:cNvSpPr/>
          <p:nvPr/>
        </p:nvSpPr>
        <p:spPr>
          <a:xfrm>
            <a:off x="6810480" y="49356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войная стрелка влево/вправо 20"/>
          <p:cNvSpPr/>
          <p:nvPr/>
        </p:nvSpPr>
        <p:spPr>
          <a:xfrm>
            <a:off x="4527720" y="48402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войная стрелка влево/вправо 21"/>
          <p:cNvSpPr/>
          <p:nvPr/>
        </p:nvSpPr>
        <p:spPr>
          <a:xfrm rot="6998400">
            <a:off x="6296040" y="4283640"/>
            <a:ext cx="785880" cy="285480"/>
          </a:xfrm>
          <a:prstGeom prst="leftRightArrow">
            <a:avLst>
              <a:gd name="adj1" fmla="val 50000"/>
              <a:gd name="adj2" fmla="val 5004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низ 22"/>
          <p:cNvSpPr/>
          <p:nvPr/>
        </p:nvSpPr>
        <p:spPr>
          <a:xfrm>
            <a:off x="4500720" y="2320920"/>
            <a:ext cx="1285560" cy="179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5214960" y="5689440"/>
            <a:ext cx="17114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.ор-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войная стрелка влево/вправо 24"/>
          <p:cNvSpPr/>
          <p:nvPr/>
        </p:nvSpPr>
        <p:spPr>
          <a:xfrm>
            <a:off x="4538520" y="5695920"/>
            <a:ext cx="714600" cy="28584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5"/>
          <p:cNvSpPr/>
          <p:nvPr/>
        </p:nvSpPr>
        <p:spPr>
          <a:xfrm>
            <a:off x="1897200" y="4668840"/>
            <a:ext cx="260352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ранней помощ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войная стрелка влево/вправо 26"/>
          <p:cNvSpPr/>
          <p:nvPr/>
        </p:nvSpPr>
        <p:spPr>
          <a:xfrm rot="18883200">
            <a:off x="1056240" y="4356720"/>
            <a:ext cx="1255680" cy="324000"/>
          </a:xfrm>
          <a:prstGeom prst="leftRightArrow">
            <a:avLst>
              <a:gd name="adj1" fmla="val 50000"/>
              <a:gd name="adj2" fmla="val 499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3551400" y="5245200"/>
            <a:ext cx="89208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М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29"/>
          <p:cNvCxnSpPr>
            <a:stCxn id="190" idx="3"/>
            <a:endCxn id="166" idx="1"/>
          </p:cNvCxnSpPr>
          <p:nvPr/>
        </p:nvCxnSpPr>
        <p:spPr>
          <a:xfrm flipV="1">
            <a:off x="4443120" y="5125680"/>
            <a:ext cx="772200" cy="3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2" name="Прямая со стрелкой 33"/>
          <p:cNvCxnSpPr/>
          <p:nvPr/>
        </p:nvCxnSpPr>
        <p:spPr>
          <a:xfrm>
            <a:off x="4443120" y="5465520"/>
            <a:ext cx="77220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3" name="Прямоугольник 36"/>
          <p:cNvSpPr/>
          <p:nvPr/>
        </p:nvSpPr>
        <p:spPr>
          <a:xfrm rot="16200000">
            <a:off x="4829040" y="2795760"/>
            <a:ext cx="478080" cy="75038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реждения других ведом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38"/>
          <p:cNvCxnSpPr/>
          <p:nvPr/>
        </p:nvCxnSpPr>
        <p:spPr>
          <a:xfrm>
            <a:off x="3498480" y="6059520"/>
            <a:ext cx="13716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Прямая со стрелкой 42"/>
          <p:cNvCxnSpPr/>
          <p:nvPr/>
        </p:nvCxnSpPr>
        <p:spPr>
          <a:xfrm flipH="1">
            <a:off x="5357520" y="6059520"/>
            <a:ext cx="18000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6" name="Двойная стрелка вверх/вниз 43"/>
          <p:cNvSpPr/>
          <p:nvPr/>
        </p:nvSpPr>
        <p:spPr>
          <a:xfrm>
            <a:off x="7810560" y="5923080"/>
            <a:ext cx="485640" cy="62532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571680" y="28576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БЛАГОДАР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ЗА 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2771640" y="260280"/>
            <a:ext cx="59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324000" y="1341360"/>
            <a:ext cx="8569080" cy="59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42 «Организация психолого-педагогической, медицинской и социальной помощи обучающимся, испытывающим трудности в освоении образовательных программ, развитии и социальной адаптации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оказывается детям, испытывающим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трудности в освоении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основных общеобразовательных программ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развит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и социальной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адаптац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том числе несовершеннолетним обучающимся, признанным в случаях и в порядке, которые предусмотрены </a:t>
            </a:r>
            <a:r>
              <a:rPr b="0" lang="ru-RU" sz="2000" spc="-1" strike="noStrike">
                <a:solidFill>
                  <a:srgbClr val="000000"/>
                </a:solidFill>
                <a:latin typeface="roboto"/>
              </a:rPr>
              <a:t>уголовно-процессуальным законодательством, подозреваемыми, обвиняемыми или подсудимыми по уголовному делу либо являющимся потерпевшими или свидетелями преступления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центрах психолого-педагогической, медицинской и социальной помощ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создаваемых органами государственной власти субъектов Российской Федерации, а также психологами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педагогами-психологами организаций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осуществляющих образовательную деятельность, в которых такие дети обуч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2771640" y="26028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, статья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24000" y="1268280"/>
            <a:ext cx="856908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включает в себ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1) психолого-педагогическое консультирование обучающихся, их родителей (законных представителей) и педагогических работников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2) коррекционно-развивающие и компенсирующие занятия с обучающимися, логопедическую помощь обучающим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3) комплекс реабилитационных и других медицинских мероприяти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4) помощь обучающимся в профориентации, получении профессии и социальной адапт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7040" y="404280"/>
            <a:ext cx="6913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номочия Свердлов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539640" y="1628640"/>
            <a:ext cx="8229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инистерства общего и профессионального образования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25.06.2015 № 283-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утверждении порядка организации психолого-педагогической, медицинской и социальной помощи обучающимся, испытывающим трудности в освоении основных общеобразовательных программ, развитии и социальной адаптации, в организациях, осуществляющих образовательную деятельность, расположенных на территории Свердловской обла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Приказ Министерства общего и профессионального 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образования Свердловской области от 25.06.2015 № 283-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D504-D638-4BBD-B1F9-4601B267D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84360" y="127620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3. ППМС-центры, создаются Правительством Свердловской области  как самостоятельны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юридические л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руктурные подразделения государственных организа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й Свердловской области, осуществляющих образовательн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4.  Министерство общего и профессионального образования Свердловской области (далее – Министерство образования) определ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осударственное учреждение Свердловской области, выполняющее функции регионального ППМС–цен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5. ППМС-центры могут создаваться органами местного самоуправления муниципальных образований. Деятельность муниципальных ППМС–центров регламентируется органами местного само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5" descr=""/>
          <p:cNvPicPr/>
          <p:nvPr/>
        </p:nvPicPr>
        <p:blipFill>
          <a:blip r:embed="rId2"/>
          <a:stretch/>
        </p:blipFill>
        <p:spPr>
          <a:xfrm>
            <a:off x="1859040" y="1268280"/>
            <a:ext cx="607212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05" name="Группа 99"/>
          <p:cNvGrpSpPr/>
          <p:nvPr/>
        </p:nvGrpSpPr>
        <p:grpSpPr>
          <a:xfrm>
            <a:off x="250920" y="4041720"/>
            <a:ext cx="2233440" cy="1079640"/>
            <a:chOff x="250920" y="4041720"/>
            <a:chExt cx="2233440" cy="1079640"/>
          </a:xfrm>
        </p:grpSpPr>
        <p:sp>
          <p:nvSpPr>
            <p:cNvPr id="106" name="Овал 100"/>
            <p:cNvSpPr/>
            <p:nvPr/>
          </p:nvSpPr>
          <p:spPr>
            <a:xfrm>
              <a:off x="880920" y="4086000"/>
              <a:ext cx="102708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Овал 101"/>
            <p:cNvSpPr/>
            <p:nvPr/>
          </p:nvSpPr>
          <p:spPr>
            <a:xfrm>
              <a:off x="190980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Овал 102"/>
            <p:cNvSpPr/>
            <p:nvPr/>
          </p:nvSpPr>
          <p:spPr>
            <a:xfrm>
              <a:off x="178272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Овал 103"/>
            <p:cNvSpPr/>
            <p:nvPr/>
          </p:nvSpPr>
          <p:spPr>
            <a:xfrm>
              <a:off x="1081080" y="4761000"/>
              <a:ext cx="57312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104"/>
            <p:cNvSpPr/>
            <p:nvPr/>
          </p:nvSpPr>
          <p:spPr>
            <a:xfrm>
              <a:off x="3776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Овал 105"/>
            <p:cNvSpPr/>
            <p:nvPr/>
          </p:nvSpPr>
          <p:spPr>
            <a:xfrm>
              <a:off x="2509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Двойная стрелка вверх/вниз 116"/>
          <p:cNvGrpSpPr/>
          <p:nvPr/>
        </p:nvGrpSpPr>
        <p:grpSpPr>
          <a:xfrm>
            <a:off x="2664000" y="2724120"/>
            <a:ext cx="433080" cy="2268720"/>
            <a:chOff x="2664000" y="2724120"/>
            <a:chExt cx="433080" cy="2268720"/>
          </a:xfrm>
        </p:grpSpPr>
        <p:pic>
          <p:nvPicPr>
            <p:cNvPr id="113" name="Двойная стрелка вверх/вниз 116" descr=""/>
            <p:cNvPicPr/>
            <p:nvPr/>
          </p:nvPicPr>
          <p:blipFill>
            <a:blip r:embed="rId3"/>
            <a:stretch/>
          </p:blipFill>
          <p:spPr>
            <a:xfrm>
              <a:off x="2664000" y="2724120"/>
              <a:ext cx="43308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98640" y="2836800"/>
              <a:ext cx="162000" cy="19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Двойная стрелка вверх/вниз 117"/>
          <p:cNvGrpSpPr/>
          <p:nvPr/>
        </p:nvGrpSpPr>
        <p:grpSpPr>
          <a:xfrm>
            <a:off x="7223040" y="3419640"/>
            <a:ext cx="530280" cy="529920"/>
            <a:chOff x="7223040" y="3419640"/>
            <a:chExt cx="530280" cy="529920"/>
          </a:xfrm>
        </p:grpSpPr>
        <p:pic>
          <p:nvPicPr>
            <p:cNvPr id="116" name="Двойная стрелка вверх/вниз 117" descr=""/>
            <p:cNvPicPr/>
            <p:nvPr/>
          </p:nvPicPr>
          <p:blipFill>
            <a:blip r:embed="rId4"/>
            <a:stretch/>
          </p:blipFill>
          <p:spPr>
            <a:xfrm>
              <a:off x="722304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8827400">
              <a:off x="7430400" y="350856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Двойная стрелка вверх/вниз 118"/>
          <p:cNvGrpSpPr/>
          <p:nvPr/>
        </p:nvGrpSpPr>
        <p:grpSpPr>
          <a:xfrm>
            <a:off x="1390680" y="3419640"/>
            <a:ext cx="530280" cy="529920"/>
            <a:chOff x="1390680" y="3419640"/>
            <a:chExt cx="530280" cy="529920"/>
          </a:xfrm>
        </p:grpSpPr>
        <p:pic>
          <p:nvPicPr>
            <p:cNvPr id="119" name="Двойная стрелка вверх/вниз 118" descr=""/>
            <p:cNvPicPr/>
            <p:nvPr/>
          </p:nvPicPr>
          <p:blipFill>
            <a:blip r:embed="rId5"/>
            <a:stretch/>
          </p:blipFill>
          <p:spPr>
            <a:xfrm>
              <a:off x="139068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rot="2810400">
              <a:off x="1595880" y="350892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36"/>
          <p:cNvGrpSpPr/>
          <p:nvPr/>
        </p:nvGrpSpPr>
        <p:grpSpPr>
          <a:xfrm>
            <a:off x="6516720" y="4041720"/>
            <a:ext cx="2232000" cy="1079640"/>
            <a:chOff x="6516720" y="4041720"/>
            <a:chExt cx="2232000" cy="1079640"/>
          </a:xfrm>
        </p:grpSpPr>
        <p:sp>
          <p:nvSpPr>
            <p:cNvPr id="122" name="Овал 37"/>
            <p:cNvSpPr/>
            <p:nvPr/>
          </p:nvSpPr>
          <p:spPr>
            <a:xfrm>
              <a:off x="7146720" y="4086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Овал 38"/>
            <p:cNvSpPr/>
            <p:nvPr/>
          </p:nvSpPr>
          <p:spPr>
            <a:xfrm>
              <a:off x="817416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Овал 39"/>
            <p:cNvSpPr/>
            <p:nvPr/>
          </p:nvSpPr>
          <p:spPr>
            <a:xfrm>
              <a:off x="804708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Овал 42"/>
            <p:cNvSpPr/>
            <p:nvPr/>
          </p:nvSpPr>
          <p:spPr>
            <a:xfrm>
              <a:off x="7345440" y="47610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Овал 44"/>
            <p:cNvSpPr/>
            <p:nvPr/>
          </p:nvSpPr>
          <p:spPr>
            <a:xfrm>
              <a:off x="66434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Овал 45"/>
            <p:cNvSpPr/>
            <p:nvPr/>
          </p:nvSpPr>
          <p:spPr>
            <a:xfrm>
              <a:off x="65167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Группа 46"/>
          <p:cNvGrpSpPr/>
          <p:nvPr/>
        </p:nvGrpSpPr>
        <p:grpSpPr>
          <a:xfrm>
            <a:off x="3419640" y="4292640"/>
            <a:ext cx="2232000" cy="1081080"/>
            <a:chOff x="3419640" y="4292640"/>
            <a:chExt cx="2232000" cy="1081080"/>
          </a:xfrm>
        </p:grpSpPr>
        <p:sp>
          <p:nvSpPr>
            <p:cNvPr id="129" name="Овал 47"/>
            <p:cNvSpPr/>
            <p:nvPr/>
          </p:nvSpPr>
          <p:spPr>
            <a:xfrm>
              <a:off x="4049640" y="4336920"/>
              <a:ext cx="1025640" cy="541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48"/>
            <p:cNvSpPr/>
            <p:nvPr/>
          </p:nvSpPr>
          <p:spPr>
            <a:xfrm>
              <a:off x="507708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Овал 49"/>
            <p:cNvSpPr/>
            <p:nvPr/>
          </p:nvSpPr>
          <p:spPr>
            <a:xfrm>
              <a:off x="495000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Овал 50"/>
            <p:cNvSpPr/>
            <p:nvPr/>
          </p:nvSpPr>
          <p:spPr>
            <a:xfrm>
              <a:off x="4248360" y="501336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Овал 51"/>
            <p:cNvSpPr/>
            <p:nvPr/>
          </p:nvSpPr>
          <p:spPr>
            <a:xfrm>
              <a:off x="354636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52"/>
            <p:cNvSpPr/>
            <p:nvPr/>
          </p:nvSpPr>
          <p:spPr>
            <a:xfrm>
              <a:off x="341964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54"/>
          <p:cNvGrpSpPr/>
          <p:nvPr/>
        </p:nvGrpSpPr>
        <p:grpSpPr>
          <a:xfrm>
            <a:off x="1763640" y="5589720"/>
            <a:ext cx="2232000" cy="1079280"/>
            <a:chOff x="1763640" y="5589720"/>
            <a:chExt cx="2232000" cy="1079280"/>
          </a:xfrm>
        </p:grpSpPr>
        <p:sp>
          <p:nvSpPr>
            <p:cNvPr id="136" name="Овал 55"/>
            <p:cNvSpPr/>
            <p:nvPr/>
          </p:nvSpPr>
          <p:spPr>
            <a:xfrm>
              <a:off x="239364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56"/>
            <p:cNvSpPr/>
            <p:nvPr/>
          </p:nvSpPr>
          <p:spPr>
            <a:xfrm>
              <a:off x="342108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57"/>
            <p:cNvSpPr/>
            <p:nvPr/>
          </p:nvSpPr>
          <p:spPr>
            <a:xfrm>
              <a:off x="329400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58"/>
            <p:cNvSpPr/>
            <p:nvPr/>
          </p:nvSpPr>
          <p:spPr>
            <a:xfrm>
              <a:off x="259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Овал 59"/>
            <p:cNvSpPr/>
            <p:nvPr/>
          </p:nvSpPr>
          <p:spPr>
            <a:xfrm>
              <a:off x="189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Овал 60"/>
            <p:cNvSpPr/>
            <p:nvPr/>
          </p:nvSpPr>
          <p:spPr>
            <a:xfrm>
              <a:off x="176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61"/>
          <p:cNvGrpSpPr/>
          <p:nvPr/>
        </p:nvGrpSpPr>
        <p:grpSpPr>
          <a:xfrm>
            <a:off x="5003640" y="5589720"/>
            <a:ext cx="2232360" cy="1079280"/>
            <a:chOff x="5003640" y="5589720"/>
            <a:chExt cx="2232360" cy="1079280"/>
          </a:xfrm>
        </p:grpSpPr>
        <p:sp>
          <p:nvSpPr>
            <p:cNvPr id="143" name="Овал 62"/>
            <p:cNvSpPr/>
            <p:nvPr/>
          </p:nvSpPr>
          <p:spPr>
            <a:xfrm>
              <a:off x="563400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Овал 63"/>
            <p:cNvSpPr/>
            <p:nvPr/>
          </p:nvSpPr>
          <p:spPr>
            <a:xfrm>
              <a:off x="66614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Овал 64"/>
            <p:cNvSpPr/>
            <p:nvPr/>
          </p:nvSpPr>
          <p:spPr>
            <a:xfrm>
              <a:off x="6534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Овал 65"/>
            <p:cNvSpPr/>
            <p:nvPr/>
          </p:nvSpPr>
          <p:spPr>
            <a:xfrm>
              <a:off x="583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Овал 66"/>
            <p:cNvSpPr/>
            <p:nvPr/>
          </p:nvSpPr>
          <p:spPr>
            <a:xfrm>
              <a:off x="513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Овал 67"/>
            <p:cNvSpPr/>
            <p:nvPr/>
          </p:nvSpPr>
          <p:spPr>
            <a:xfrm>
              <a:off x="500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Двойная стрелка вверх/вниз 68"/>
          <p:cNvGrpSpPr/>
          <p:nvPr/>
        </p:nvGrpSpPr>
        <p:grpSpPr>
          <a:xfrm>
            <a:off x="5870520" y="2749680"/>
            <a:ext cx="433440" cy="2273040"/>
            <a:chOff x="5870520" y="2749680"/>
            <a:chExt cx="433440" cy="2273040"/>
          </a:xfrm>
        </p:grpSpPr>
        <p:pic>
          <p:nvPicPr>
            <p:cNvPr id="150" name="Двойная стрелка вверх/вниз 68" descr=""/>
            <p:cNvPicPr/>
            <p:nvPr/>
          </p:nvPicPr>
          <p:blipFill>
            <a:blip r:embed="rId6"/>
            <a:stretch/>
          </p:blipFill>
          <p:spPr>
            <a:xfrm>
              <a:off x="5870520" y="2749680"/>
              <a:ext cx="433440" cy="22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005520" y="2862360"/>
              <a:ext cx="16200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Двойная стрелка вверх/вниз 69"/>
          <p:cNvGrpSpPr/>
          <p:nvPr/>
        </p:nvGrpSpPr>
        <p:grpSpPr>
          <a:xfrm>
            <a:off x="4322880" y="3328920"/>
            <a:ext cx="431640" cy="968400"/>
            <a:chOff x="4322880" y="3328920"/>
            <a:chExt cx="431640" cy="968400"/>
          </a:xfrm>
        </p:grpSpPr>
        <p:pic>
          <p:nvPicPr>
            <p:cNvPr id="153" name="Двойная стрелка вверх/вниз 69" descr=""/>
            <p:cNvPicPr/>
            <p:nvPr/>
          </p:nvPicPr>
          <p:blipFill>
            <a:blip r:embed="rId7"/>
            <a:stretch/>
          </p:blipFill>
          <p:spPr>
            <a:xfrm>
              <a:off x="4322880" y="3328920"/>
              <a:ext cx="4316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454640" y="3438360"/>
              <a:ext cx="161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2195640" y="2858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кружные ППМС-центры – «Центры координ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"/>
          <p:cNvSpPr/>
          <p:nvPr/>
        </p:nvSpPr>
        <p:spPr>
          <a:xfrm>
            <a:off x="611280" y="1700280"/>
            <a:ext cx="8137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вляются ядром психологического  сопровождения  детей «группы риска» в системе  образования в округ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ах могут создаваться отдельные структурные подразделен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ПМПК, ПМПКонсилиу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первичную и специализированную помощь детям, семь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несовершеннолет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научно-методическую помощь руководителям и специалис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бразовательны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 обеспечивает психолого-педагогическое, социально-педагогическое и      медико-социальное сопровождение детей в 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учрежд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рганизует профессиональное взаимодействие и подготовку социальных      педагогов, логопедов, дефектологов, психолог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39"/>
          <p:cNvSpPr/>
          <p:nvPr/>
        </p:nvSpPr>
        <p:spPr>
          <a:xfrm>
            <a:off x="468360" y="1268280"/>
            <a:ext cx="755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казания необходимой ППМС помощи обучающимся, испытывающим трудности в освоении основных общеобразовательных программ, развитии и социальной адаптации, образовательные организации, ППМС-центры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гут организовать предоставление услуг квалифицированных специалистов иных организаций социальной сф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рганизаций здравоохранения, социальной политики, службы занятости населения, иных организаций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соответствии с установленным для таких учреждений порядком, условиями предоставления усл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овершеннолетним гражданам, либо на основании соглашений о взаимодейст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жведомственное взаимодействие при оказании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39"/>
          <p:cNvSpPr/>
          <p:nvPr/>
        </p:nvSpPr>
        <p:spPr>
          <a:xfrm>
            <a:off x="468360" y="126828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19. На официальных сайтах в сети ИНТЕРНЕТ регионального ППМС – центра и муниципальных ППМС–центров, организаций, осуществляющих образовательную деятельность, создаются специальные разделы, предоставляющи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нформацию об услугах, порядке, условиях их предоставления и контактной информации организаций (независимо от их ведомственной принадлежности), оказывающих психолого-педагогическую помощь, медицинские и социальные услуги несовершеннолетним граждан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их родителям. Данная информация также размещается на стендах (мониторах) общего доступа в   организациях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формационное поле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bueva Ирина</dc:creator>
  <dc:description/>
  <dc:language>en-US</dc:language>
  <cp:lastModifiedBy>name</cp:lastModifiedBy>
  <dcterms:modified xsi:type="dcterms:W3CDTF">2015-09-16T04:56:41Z</dcterms:modified>
  <cp:revision>3318</cp:revision>
  <dc:subject/>
  <dc:title>Итоги СЭР СО</dc:title>
</cp:coreProperties>
</file>