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DA5-068D-420B-B22C-FD3FF5B1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CD3-BFCC-4811-9A0C-BEBB0ECC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E94-E8F1-43E3-8A38-5FEFB44B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CE2-0FEB-4C1F-8479-F871C25E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3E13-2DC9-4ECA-9F23-A17957A4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289F-EF5E-4409-8CC2-88ED6513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F945-32D9-43C1-961F-235959B5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8612-8E57-47BA-930E-4C19C095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D176-8209-454B-B14A-708F3F95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02E4-5E16-48AC-BA1B-F51F5B79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E687-A532-4081-B492-D5878DB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575-1024-46AC-ABBC-13535DD7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5190-C6E4-407B-929E-BCF7203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A34-59D1-4951-AC40-796D9042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21BB-C223-4010-AF38-5FF20FBD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4AC4-9751-495F-BAE5-FDFC342A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C5BD-623F-4A60-B1D3-C1BC42E8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7FD-C0E5-4AAE-A89E-A31B3D9F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84D-3D08-40D4-8AEE-EDFE86D9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5AC-2B81-4FC0-B494-DDCEFE43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787-ABC9-47B7-A073-D81B6AAF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5E8-0812-4F3F-B9BC-8FADA84E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B07-4849-4B6B-A4CB-F05F718B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598-495E-458D-BACA-799EEE84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86D2-E4DB-4E56-98AF-3DAAB6F603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70AA-C6E8-43DE-8675-878B3DBB97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Garamond"/>
              </a:rPr>
              <a:t>О профилактике жестокого обращения в отношении несовершеннолетних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минар-совещание с органами местного самоуправления, осуществляющими управление в сфере образ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5:01:39Z</dcterms:created>
  <dc:creator>name</dc:creator>
  <dc:description/>
  <dc:language>en-US</dc:language>
  <cp:lastModifiedBy>name</cp:lastModifiedBy>
  <dcterms:modified xsi:type="dcterms:W3CDTF">2015-09-16T07:24:30Z</dcterms:modified>
  <cp:revision>2</cp:revision>
  <dc:subject/>
  <dc:title>О профилактике жестокого обращения в отношении несовершеннолетних</dc:title>
</cp:coreProperties>
</file>