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863B-EB30-4149-8FCE-878D71C2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C979-C4EE-4611-B122-59E47463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FEA4-250F-4C8A-B3F3-7D53F1CD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7059-65D5-45E6-B38B-A0A67114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0845-9050-4835-9CB8-6CF61C4F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C85C-D16F-4716-AC5E-754091CD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EFDB-38DF-4341-8BD8-3E5E64CC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DC6F-8878-4C32-A4B0-4B4A9B3D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AB78-D144-4543-AFE8-A320489C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9A76-1491-4C33-8F35-4628E7FF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74B7-9421-48F3-BB3A-B8C668AF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E773-830D-4228-B1C8-D19B405F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C8EB-379C-4673-B07C-9273728C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31BF-F173-4691-804F-AE623B62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0594-08BA-41D5-8F8B-B4714F87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3E61-0130-40FB-B91D-6BACFA9B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E10A-2422-4F45-B5CC-C528A515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1317-999D-4733-87AE-18EE86D8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E85F-1296-492D-9619-6007238F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A9F4-C4C3-4D76-9DAE-28469E3E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CFB0-FC77-4ADF-A8E1-42F4485C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BC74-9505-47AF-BDAC-DDAB8697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1DA7-39F1-42CD-A840-CBFA9CB2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E874-4423-435C-8C22-C9FB03ED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7484-E272-49BD-950C-DC7BC2CC475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258D-CB98-4597-9366-22205C8EBA9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b9efee"/>
                </a:solidFill>
                <a:latin typeface="Garamond"/>
              </a:rPr>
              <a:t>О профилактике жестокого обращения в отношении несовершеннолетних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340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еминар-совещание с органами местного самоуправления, осуществляющими управление в сфере образова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5:01:39Z</dcterms:created>
  <dc:creator>name</dc:creator>
  <dc:description/>
  <dc:language>en-US</dc:language>
  <cp:lastModifiedBy>name</cp:lastModifiedBy>
  <dcterms:modified xsi:type="dcterms:W3CDTF">2015-09-16T07:24:30Z</dcterms:modified>
  <cp:revision>2</cp:revision>
  <dc:subject/>
  <dc:title>О профилактике жестокого обращения в отношении несовершеннолетних</dc:title>
</cp:coreProperties>
</file>