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884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7340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4532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8840" y="944532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0FFE-5882-48F8-8F87-9F8DBAA332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3400" cy="3728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59200" y="944568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F74A-1363-481D-BD6A-7CD94813A9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585-A18A-487E-8A53-FB6C7D7A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857-66FA-4488-B921-8DDCBA75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F4B-0FC3-47D4-A10C-680C10CC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401-3B09-4E8D-A984-696562D2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960F-5DA4-402A-B958-C824AB18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3DF4-0256-4FA2-9C55-7AFFCC78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A173-E94A-430E-A968-50A87CE6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1B8F-7B68-4338-87A9-4D5161A4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3D1B-020D-4B7C-BDAB-DA1F6654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FA3B-9F87-4C7F-AE22-40FFB62A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9ACC-0845-4A3D-90A3-C1073C6C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F33-EB05-492A-A7DC-1DDEDFA2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6D36-177E-4A39-8F2A-1329C958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288C-6867-4A08-AC22-1BD8F7F3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8854-0725-46A8-B5C4-0FAA1628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9F2E-06AD-4F7A-A635-E8C59D50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95C0-DD48-4DBB-B3D2-8053ECF4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EB1-4098-4D19-9658-672ABD93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688E-B79E-4D77-B80C-9D205B3F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59C-3D9D-4001-B42D-1B2CDDD3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2400-9D9C-4FE3-AE19-E93ECBC3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17F-D40E-439E-815C-E990E1A2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0FA-191C-4ED5-86C4-77303314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BFA-83E4-41D8-BF6C-2588DF75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EAA4-F2EF-4D00-8D96-BE21E0A3752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331B-6365-4E67-8E47-3497203ACA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6899-B786-47C2-9245-EC074C99DEA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7E88-47A1-475D-9106-D71C5936AE75}" type="slidenum">
              <a: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3214800" y="6000840"/>
            <a:ext cx="300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катерин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4071960" y="4000680"/>
            <a:ext cx="47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alibri"/>
              </a:rPr>
              <a:t>Заместитель начальника отдела государственного воспитания и коррекции, руководитель ЦПМПК Деникаева Ольга Валериановна</a:t>
            </a:r>
            <a:r>
              <a:rPr b="0" i="1" lang="en-US" sz="2000" spc="-1" strike="noStrike">
                <a:solidFill>
                  <a:srgbClr val="1f497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89000" y="1427040"/>
            <a:ext cx="8723160" cy="2578320"/>
            <a:chOff x="189000" y="1427040"/>
            <a:chExt cx="8723160" cy="257832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2"/>
            <a:stretch/>
          </p:blipFill>
          <p:spPr>
            <a:xfrm>
              <a:off x="189000" y="1427040"/>
              <a:ext cx="8723160" cy="25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82680" y="1617840"/>
              <a:ext cx="8334360" cy="21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Tahoma"/>
                </a:rPr>
                <a:t>Об организации психолого-педагогической, медицинской и социальной помощи  обучающимся, испытывающим трудности в освоении образовательных программ, развитии и социальной адапт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1"/>
          <p:cNvSpPr/>
          <p:nvPr/>
        </p:nvSpPr>
        <p:spPr>
          <a:xfrm>
            <a:off x="1208160" y="150840"/>
            <a:ext cx="739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инистерство общего и профессионального образования Свердл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5" name="Прямая со стрелкой 40"/>
          <p:cNvCxnSpPr>
            <a:stCxn id="166" idx="2"/>
          </p:cNvCxnSpPr>
          <p:nvPr/>
        </p:nvCxnSpPr>
        <p:spPr>
          <a:xfrm>
            <a:off x="6071760" y="5535360"/>
            <a:ext cx="1080" cy="77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67" name="Прямоугольник 7"/>
          <p:cNvSpPr/>
          <p:nvPr/>
        </p:nvSpPr>
        <p:spPr>
          <a:xfrm>
            <a:off x="7380360" y="4714920"/>
            <a:ext cx="1549440" cy="1285920"/>
          </a:xfrm>
          <a:prstGeom prst="rect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Центры координации» в округах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ординация и методическое сопрово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трелка вправо 18"/>
          <p:cNvSpPr/>
          <p:nvPr/>
        </p:nvSpPr>
        <p:spPr>
          <a:xfrm rot="10800000">
            <a:off x="6870240" y="5702400"/>
            <a:ext cx="514440" cy="3571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1284120" y="2541600"/>
            <a:ext cx="2214720" cy="1428840"/>
          </a:xfrm>
          <a:prstGeom prst="rect">
            <a:avLst/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сихолого-педагогические вузы, Федерация психологов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трелка влево 12"/>
          <p:cNvSpPr/>
          <p:nvPr/>
        </p:nvSpPr>
        <p:spPr>
          <a:xfrm>
            <a:off x="3500280" y="2928960"/>
            <a:ext cx="642960" cy="35712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лево 13"/>
          <p:cNvSpPr/>
          <p:nvPr/>
        </p:nvSpPr>
        <p:spPr>
          <a:xfrm rot="18971400">
            <a:off x="3536640" y="4060440"/>
            <a:ext cx="1143000" cy="35712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1886040" y="5535720"/>
            <a:ext cx="2703600" cy="522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ужбы меди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трелка влево 14"/>
          <p:cNvSpPr/>
          <p:nvPr/>
        </p:nvSpPr>
        <p:spPr>
          <a:xfrm rot="16200000">
            <a:off x="5095080" y="4048920"/>
            <a:ext cx="882720" cy="3571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трелка влево 15"/>
          <p:cNvSpPr/>
          <p:nvPr/>
        </p:nvSpPr>
        <p:spPr>
          <a:xfrm rot="13287000">
            <a:off x="7455960" y="4006440"/>
            <a:ext cx="1482840" cy="357120"/>
          </a:xfrm>
          <a:prstGeom prst="leftArrow">
            <a:avLst>
              <a:gd name="adj1" fmla="val 54759"/>
              <a:gd name="adj2" fmla="val 50019"/>
            </a:avLst>
          </a:pr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4960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Модель организации взаимодействия  учреждений образования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в системе  психолого-педагогической , медицинской и социальной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Calibri"/>
              </a:rPr>
              <a:t>помощ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249200" y="1413000"/>
            <a:ext cx="7570800" cy="907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ект развития психолого-педагогической , медицинской и социальной 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4000680" y="2571840"/>
            <a:ext cx="2286000" cy="1428840"/>
          </a:xfrm>
          <a:prstGeom prst="rect">
            <a:avLst/>
          </a:prstGeom>
          <a:solidFill>
            <a:srgbClr val="4bacc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нистерство общего и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6"/>
          <p:cNvSpPr/>
          <p:nvPr/>
        </p:nvSpPr>
        <p:spPr>
          <a:xfrm>
            <a:off x="6595920" y="2571840"/>
            <a:ext cx="2428920" cy="1500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БОУ СО ЦППРиК «Лад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оординация и методическое сопров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9"/>
          <p:cNvSpPr/>
          <p:nvPr/>
        </p:nvSpPr>
        <p:spPr>
          <a:xfrm>
            <a:off x="5214960" y="4714920"/>
            <a:ext cx="1714320" cy="820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ПМС-центры действ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Стрелка вверх 10" descr=""/>
          <p:cNvPicPr/>
          <p:nvPr/>
        </p:nvPicPr>
        <p:blipFill>
          <a:blip r:embed="rId2"/>
          <a:stretch/>
        </p:blipFill>
        <p:spPr>
          <a:xfrm>
            <a:off x="-30240" y="1554120"/>
            <a:ext cx="1133640" cy="4602240"/>
          </a:xfrm>
          <a:prstGeom prst="rect">
            <a:avLst/>
          </a:prstGeom>
          <a:ln w="0">
            <a:noFill/>
          </a:ln>
        </p:spPr>
      </p:pic>
      <p:sp>
        <p:nvSpPr>
          <p:cNvPr id="180" name="Стрелка влево 11"/>
          <p:cNvSpPr/>
          <p:nvPr/>
        </p:nvSpPr>
        <p:spPr>
          <a:xfrm>
            <a:off x="428760" y="4929120"/>
            <a:ext cx="1393560" cy="10717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сихологический монитор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Двойная стрелка влево/вправо 16"/>
          <p:cNvSpPr/>
          <p:nvPr/>
        </p:nvSpPr>
        <p:spPr>
          <a:xfrm>
            <a:off x="6072120" y="3000240"/>
            <a:ext cx="642960" cy="285840"/>
          </a:xfrm>
          <a:prstGeom prst="left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4bacc6"/>
              </a:gs>
              <a:gs pos="100000">
                <a:srgbClr val="e1e8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Двойная стрелка влево/вправо 19"/>
          <p:cNvSpPr/>
          <p:nvPr/>
        </p:nvSpPr>
        <p:spPr>
          <a:xfrm>
            <a:off x="6810480" y="4935600"/>
            <a:ext cx="714240" cy="285840"/>
          </a:xfrm>
          <a:prstGeom prst="leftRightArrow">
            <a:avLst>
              <a:gd name="adj1" fmla="val 50000"/>
              <a:gd name="adj2" fmla="val 4974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Двойная стрелка влево/вправо 20"/>
          <p:cNvSpPr/>
          <p:nvPr/>
        </p:nvSpPr>
        <p:spPr>
          <a:xfrm>
            <a:off x="4527720" y="4840200"/>
            <a:ext cx="714240" cy="285840"/>
          </a:xfrm>
          <a:prstGeom prst="leftRightArrow">
            <a:avLst>
              <a:gd name="adj1" fmla="val 50000"/>
              <a:gd name="adj2" fmla="val 4974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Двойная стрелка влево/вправо 21"/>
          <p:cNvSpPr/>
          <p:nvPr/>
        </p:nvSpPr>
        <p:spPr>
          <a:xfrm rot="6998400">
            <a:off x="6296040" y="4283640"/>
            <a:ext cx="785880" cy="285480"/>
          </a:xfrm>
          <a:prstGeom prst="leftRightArrow">
            <a:avLst>
              <a:gd name="adj1" fmla="val 50000"/>
              <a:gd name="adj2" fmla="val 50048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трелка вниз 22"/>
          <p:cNvSpPr/>
          <p:nvPr/>
        </p:nvSpPr>
        <p:spPr>
          <a:xfrm>
            <a:off x="4500720" y="2320920"/>
            <a:ext cx="1285560" cy="179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3"/>
          <p:cNvSpPr/>
          <p:nvPr/>
        </p:nvSpPr>
        <p:spPr>
          <a:xfrm>
            <a:off x="5214960" y="5689440"/>
            <a:ext cx="171144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з.ор-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Двойная стрелка влево/вправо 24"/>
          <p:cNvSpPr/>
          <p:nvPr/>
        </p:nvSpPr>
        <p:spPr>
          <a:xfrm>
            <a:off x="4538520" y="5695920"/>
            <a:ext cx="714600" cy="28584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5"/>
          <p:cNvSpPr/>
          <p:nvPr/>
        </p:nvSpPr>
        <p:spPr>
          <a:xfrm>
            <a:off x="1897200" y="4668840"/>
            <a:ext cx="2603520" cy="642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ужбы ранней помощ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Двойная стрелка влево/вправо 26"/>
          <p:cNvSpPr/>
          <p:nvPr/>
        </p:nvSpPr>
        <p:spPr>
          <a:xfrm rot="18883200">
            <a:off x="1056240" y="4356720"/>
            <a:ext cx="1255680" cy="324000"/>
          </a:xfrm>
          <a:prstGeom prst="leftRightArrow">
            <a:avLst>
              <a:gd name="adj1" fmla="val 50000"/>
              <a:gd name="adj2" fmla="val 4996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7"/>
          <p:cNvSpPr/>
          <p:nvPr/>
        </p:nvSpPr>
        <p:spPr>
          <a:xfrm>
            <a:off x="3551400" y="5245200"/>
            <a:ext cx="89208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М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Прямая со стрелкой 29"/>
          <p:cNvCxnSpPr>
            <a:stCxn id="190" idx="3"/>
            <a:endCxn id="166" idx="1"/>
          </p:cNvCxnSpPr>
          <p:nvPr/>
        </p:nvCxnSpPr>
        <p:spPr>
          <a:xfrm flipV="1">
            <a:off x="4443120" y="5125680"/>
            <a:ext cx="772200" cy="3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2" name="Прямая со стрелкой 33"/>
          <p:cNvCxnSpPr/>
          <p:nvPr/>
        </p:nvCxnSpPr>
        <p:spPr>
          <a:xfrm>
            <a:off x="4443120" y="5465520"/>
            <a:ext cx="772200" cy="23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3" name="Прямоугольник 36"/>
          <p:cNvSpPr/>
          <p:nvPr/>
        </p:nvSpPr>
        <p:spPr>
          <a:xfrm rot="16200000">
            <a:off x="4829040" y="2795760"/>
            <a:ext cx="478080" cy="750384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чреждения других ведом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Прямая со стрелкой 38"/>
          <p:cNvCxnSpPr/>
          <p:nvPr/>
        </p:nvCxnSpPr>
        <p:spPr>
          <a:xfrm>
            <a:off x="3498480" y="6059520"/>
            <a:ext cx="137160" cy="249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Прямая со стрелкой 42"/>
          <p:cNvCxnSpPr/>
          <p:nvPr/>
        </p:nvCxnSpPr>
        <p:spPr>
          <a:xfrm flipH="1">
            <a:off x="5357520" y="6059520"/>
            <a:ext cx="180000" cy="249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6" name="Двойная стрелка вверх/вниз 43"/>
          <p:cNvSpPr/>
          <p:nvPr/>
        </p:nvSpPr>
        <p:spPr>
          <a:xfrm>
            <a:off x="7810560" y="5923080"/>
            <a:ext cx="485640" cy="625320"/>
          </a:xfrm>
          <a:prstGeom prst="upDown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4"/>
          <p:cNvSpPr/>
          <p:nvPr/>
        </p:nvSpPr>
        <p:spPr>
          <a:xfrm>
            <a:off x="571680" y="285768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БЛАГОДАРЮ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ЗА 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3"/>
          <p:cNvSpPr/>
          <p:nvPr/>
        </p:nvSpPr>
        <p:spPr>
          <a:xfrm>
            <a:off x="2771640" y="260280"/>
            <a:ext cx="59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едеральный закон от 29.12.2012 № 273-ФЗ «об образовании в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324000" y="1341360"/>
            <a:ext cx="8569080" cy="59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тья 42 «Организация психолого-педагогической, медицинской и социальной помощи обучающимся, испытывающим трудности в освоении образовательных программ, развитии и социальной адаптации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 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Психолого-педагогическая, медицинская и социальная помощь оказывается детям, испытывающим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трудности в освоении 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основных общеобразовательных программ,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развитии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 и социальной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адаптации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в том числе несовершеннолетним обучающимся, признанным в случаях и в порядке, которые предусмотрены </a:t>
            </a:r>
            <a:r>
              <a:rPr b="0" lang="ru-RU" sz="2000" spc="-1" strike="noStrike">
                <a:solidFill>
                  <a:srgbClr val="000000"/>
                </a:solidFill>
                <a:latin typeface="roboto"/>
              </a:rPr>
              <a:t>уголовно-процессуальным законодательством, подозреваемыми, обвиняемыми или подсудимыми по уголовному делу либо являющимся потерпевшими или свидетелями преступления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в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центрах психолого-педагогической, медицинской и социальной помощи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создаваемых органами государственной власти субъектов Российской Федерации, а также психологами, </a:t>
            </a:r>
            <a:r>
              <a:rPr b="0" lang="ru-RU" sz="2000" spc="-1" strike="noStrike">
                <a:solidFill>
                  <a:srgbClr val="ff0000"/>
                </a:solidFill>
                <a:latin typeface="roboto"/>
              </a:rPr>
              <a:t>педагогами-психологами организаций</a:t>
            </a:r>
            <a:r>
              <a:rPr b="0" lang="ru-RU" sz="2000" spc="-1" strike="noStrike">
                <a:solidFill>
                  <a:srgbClr val="373737"/>
                </a:solidFill>
                <a:latin typeface="roboto"/>
              </a:rPr>
              <a:t>, осуществляющих образовательную деятельность, в которых такие дети обуча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2771640" y="260280"/>
            <a:ext cx="59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деральный закон от 29.12.2012 № 273-ФЗ «Об образовании в Российской Федерации», статья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24000" y="1268280"/>
            <a:ext cx="856908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Психолого-педагогическая, медицинская и социальная помощь включает в себя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1) психолого-педагогическое консультирование обучающихся, их родителей (законных представителей) и педагогических работников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2) коррекционно-развивающие и компенсирующие занятия с обучающимися, логопедическую помощь обучающимс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3) комплекс реабилитационных и других медицинских мероприяти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37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73737"/>
                </a:solidFill>
                <a:latin typeface="roboto"/>
              </a:rPr>
              <a:t>4) помощь обучающимся в профориентации, получении профессии и социальной адаптаци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67040" y="404280"/>
            <a:ext cx="6913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лномочия Свердловск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539640" y="1628640"/>
            <a:ext cx="8229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аз Министерства общего и профессионального образования Свердл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25.06.2015 № 283-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 утверждении порядка организации психолого-педагогической, медицинской и социальной помощи обучающимся, испытывающим трудности в освоении основных общеобразовательных программ, развитии и социальной адаптации, в организациях, осуществляющих образовательную деятельность, расположенных на территории Свердловской обла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000" spc="-1" strike="noStrike">
                <a:solidFill>
                  <a:srgbClr val="3366ff"/>
                </a:solidFill>
                <a:latin typeface="Calibri"/>
              </a:rPr>
              <a:t>Приказ Министерства общего и профессионального </a:t>
            </a:r>
            <a:br>
              <a:rPr sz="2000"/>
            </a:br>
            <a:r>
              <a:rPr b="1" lang="ru-RU" sz="2000" spc="-1" strike="noStrike">
                <a:solidFill>
                  <a:srgbClr val="3366ff"/>
                </a:solidFill>
                <a:latin typeface="Calibri"/>
              </a:rPr>
              <a:t>образования Свердловской области от 25.06.2015 № 283-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EE9A-D6B6-4812-93EC-A3278A39E1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684360" y="127620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 3. ППМС-центры, создаются Правительством Свердловской области  как самостоятельны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юридические лиц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б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руктурные подразделения государственных организа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й Свердловской области, осуществляющих образовательную деятель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4.  Министерство общего и профессионального образования Свердловской области (далее – Министерство образования) определяе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осударственное учреждение Свердловской области, выполняющее функции регионального ППМС–цент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5. ППМС-центры могут создаваться органами местного самоуправления муниципальных образований. Деятельность муниципальных ППМС–центров регламентируется органами местного самоу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Прямоугольник 5" descr=""/>
          <p:cNvPicPr/>
          <p:nvPr/>
        </p:nvPicPr>
        <p:blipFill>
          <a:blip r:embed="rId2"/>
          <a:stretch/>
        </p:blipFill>
        <p:spPr>
          <a:xfrm>
            <a:off x="1859040" y="1268280"/>
            <a:ext cx="6072120" cy="1285920"/>
          </a:xfrm>
          <a:prstGeom prst="rect">
            <a:avLst/>
          </a:prstGeom>
          <a:ln w="0">
            <a:noFill/>
          </a:ln>
        </p:spPr>
      </p:pic>
      <p:grpSp>
        <p:nvGrpSpPr>
          <p:cNvPr id="105" name="Группа 99"/>
          <p:cNvGrpSpPr/>
          <p:nvPr/>
        </p:nvGrpSpPr>
        <p:grpSpPr>
          <a:xfrm>
            <a:off x="250920" y="4041720"/>
            <a:ext cx="2233440" cy="1079640"/>
            <a:chOff x="250920" y="4041720"/>
            <a:chExt cx="2233440" cy="1079640"/>
          </a:xfrm>
        </p:grpSpPr>
        <p:sp>
          <p:nvSpPr>
            <p:cNvPr id="106" name="Овал 100"/>
            <p:cNvSpPr/>
            <p:nvPr/>
          </p:nvSpPr>
          <p:spPr>
            <a:xfrm>
              <a:off x="880920" y="4086000"/>
              <a:ext cx="102708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Овал 101"/>
            <p:cNvSpPr/>
            <p:nvPr/>
          </p:nvSpPr>
          <p:spPr>
            <a:xfrm>
              <a:off x="190980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Овал 102"/>
            <p:cNvSpPr/>
            <p:nvPr/>
          </p:nvSpPr>
          <p:spPr>
            <a:xfrm>
              <a:off x="178272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Овал 103"/>
            <p:cNvSpPr/>
            <p:nvPr/>
          </p:nvSpPr>
          <p:spPr>
            <a:xfrm>
              <a:off x="1081080" y="4761000"/>
              <a:ext cx="57312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Овал 104"/>
            <p:cNvSpPr/>
            <p:nvPr/>
          </p:nvSpPr>
          <p:spPr>
            <a:xfrm>
              <a:off x="37764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Овал 105"/>
            <p:cNvSpPr/>
            <p:nvPr/>
          </p:nvSpPr>
          <p:spPr>
            <a:xfrm>
              <a:off x="25092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Двойная стрелка вверх/вниз 116"/>
          <p:cNvGrpSpPr/>
          <p:nvPr/>
        </p:nvGrpSpPr>
        <p:grpSpPr>
          <a:xfrm>
            <a:off x="2664000" y="2724120"/>
            <a:ext cx="433080" cy="2268720"/>
            <a:chOff x="2664000" y="2724120"/>
            <a:chExt cx="433080" cy="2268720"/>
          </a:xfrm>
        </p:grpSpPr>
        <p:pic>
          <p:nvPicPr>
            <p:cNvPr id="113" name="Двойная стрелка вверх/вниз 116" descr=""/>
            <p:cNvPicPr/>
            <p:nvPr/>
          </p:nvPicPr>
          <p:blipFill>
            <a:blip r:embed="rId3"/>
            <a:stretch/>
          </p:blipFill>
          <p:spPr>
            <a:xfrm>
              <a:off x="2664000" y="2724120"/>
              <a:ext cx="43308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798640" y="2836800"/>
              <a:ext cx="162000" cy="19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Двойная стрелка вверх/вниз 117"/>
          <p:cNvGrpSpPr/>
          <p:nvPr/>
        </p:nvGrpSpPr>
        <p:grpSpPr>
          <a:xfrm>
            <a:off x="7223040" y="3419640"/>
            <a:ext cx="530280" cy="529920"/>
            <a:chOff x="7223040" y="3419640"/>
            <a:chExt cx="530280" cy="529920"/>
          </a:xfrm>
        </p:grpSpPr>
        <p:pic>
          <p:nvPicPr>
            <p:cNvPr id="116" name="Двойная стрелка вверх/вниз 117" descr=""/>
            <p:cNvPicPr/>
            <p:nvPr/>
          </p:nvPicPr>
          <p:blipFill>
            <a:blip r:embed="rId4"/>
            <a:stretch/>
          </p:blipFill>
          <p:spPr>
            <a:xfrm>
              <a:off x="7223040" y="3419640"/>
              <a:ext cx="53028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 rot="18827400">
              <a:off x="7430400" y="3508560"/>
              <a:ext cx="1191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Двойная стрелка вверх/вниз 118"/>
          <p:cNvGrpSpPr/>
          <p:nvPr/>
        </p:nvGrpSpPr>
        <p:grpSpPr>
          <a:xfrm>
            <a:off x="1390680" y="3419640"/>
            <a:ext cx="530280" cy="529920"/>
            <a:chOff x="1390680" y="3419640"/>
            <a:chExt cx="530280" cy="529920"/>
          </a:xfrm>
        </p:grpSpPr>
        <p:pic>
          <p:nvPicPr>
            <p:cNvPr id="119" name="Двойная стрелка вверх/вниз 118" descr=""/>
            <p:cNvPicPr/>
            <p:nvPr/>
          </p:nvPicPr>
          <p:blipFill>
            <a:blip r:embed="rId5"/>
            <a:stretch/>
          </p:blipFill>
          <p:spPr>
            <a:xfrm>
              <a:off x="1390680" y="3419640"/>
              <a:ext cx="53028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 rot="2810400">
              <a:off x="1595880" y="3508920"/>
              <a:ext cx="11916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Группа 36"/>
          <p:cNvGrpSpPr/>
          <p:nvPr/>
        </p:nvGrpSpPr>
        <p:grpSpPr>
          <a:xfrm>
            <a:off x="6516720" y="4041720"/>
            <a:ext cx="2232000" cy="1079640"/>
            <a:chOff x="6516720" y="4041720"/>
            <a:chExt cx="2232000" cy="1079640"/>
          </a:xfrm>
        </p:grpSpPr>
        <p:sp>
          <p:nvSpPr>
            <p:cNvPr id="122" name="Овал 37"/>
            <p:cNvSpPr/>
            <p:nvPr/>
          </p:nvSpPr>
          <p:spPr>
            <a:xfrm>
              <a:off x="7146720" y="4086000"/>
              <a:ext cx="102564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Овал 38"/>
            <p:cNvSpPr/>
            <p:nvPr/>
          </p:nvSpPr>
          <p:spPr>
            <a:xfrm>
              <a:off x="817416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Овал 39"/>
            <p:cNvSpPr/>
            <p:nvPr/>
          </p:nvSpPr>
          <p:spPr>
            <a:xfrm>
              <a:off x="804708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Овал 42"/>
            <p:cNvSpPr/>
            <p:nvPr/>
          </p:nvSpPr>
          <p:spPr>
            <a:xfrm>
              <a:off x="7345440" y="476100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Овал 44"/>
            <p:cNvSpPr/>
            <p:nvPr/>
          </p:nvSpPr>
          <p:spPr>
            <a:xfrm>
              <a:off x="6643440" y="45212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Овал 45"/>
            <p:cNvSpPr/>
            <p:nvPr/>
          </p:nvSpPr>
          <p:spPr>
            <a:xfrm>
              <a:off x="6516720" y="4041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Группа 46"/>
          <p:cNvGrpSpPr/>
          <p:nvPr/>
        </p:nvGrpSpPr>
        <p:grpSpPr>
          <a:xfrm>
            <a:off x="3419640" y="4292640"/>
            <a:ext cx="2232000" cy="1081080"/>
            <a:chOff x="3419640" y="4292640"/>
            <a:chExt cx="2232000" cy="1081080"/>
          </a:xfrm>
        </p:grpSpPr>
        <p:sp>
          <p:nvSpPr>
            <p:cNvPr id="129" name="Овал 47"/>
            <p:cNvSpPr/>
            <p:nvPr/>
          </p:nvSpPr>
          <p:spPr>
            <a:xfrm>
              <a:off x="4049640" y="4336920"/>
              <a:ext cx="1025640" cy="541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48"/>
            <p:cNvSpPr/>
            <p:nvPr/>
          </p:nvSpPr>
          <p:spPr>
            <a:xfrm>
              <a:off x="5077080" y="4292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Овал 49"/>
            <p:cNvSpPr/>
            <p:nvPr/>
          </p:nvSpPr>
          <p:spPr>
            <a:xfrm>
              <a:off x="4950000" y="477360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Овал 50"/>
            <p:cNvSpPr/>
            <p:nvPr/>
          </p:nvSpPr>
          <p:spPr>
            <a:xfrm>
              <a:off x="4248360" y="501336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Овал 51"/>
            <p:cNvSpPr/>
            <p:nvPr/>
          </p:nvSpPr>
          <p:spPr>
            <a:xfrm>
              <a:off x="3546360" y="477360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Овал 52"/>
            <p:cNvSpPr/>
            <p:nvPr/>
          </p:nvSpPr>
          <p:spPr>
            <a:xfrm>
              <a:off x="3419640" y="4292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Группа 54"/>
          <p:cNvGrpSpPr/>
          <p:nvPr/>
        </p:nvGrpSpPr>
        <p:grpSpPr>
          <a:xfrm>
            <a:off x="1763640" y="5589720"/>
            <a:ext cx="2232000" cy="1079280"/>
            <a:chOff x="1763640" y="5589720"/>
            <a:chExt cx="2232000" cy="1079280"/>
          </a:xfrm>
        </p:grpSpPr>
        <p:sp>
          <p:nvSpPr>
            <p:cNvPr id="136" name="Овал 55"/>
            <p:cNvSpPr/>
            <p:nvPr/>
          </p:nvSpPr>
          <p:spPr>
            <a:xfrm>
              <a:off x="2393640" y="5634000"/>
              <a:ext cx="102564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Овал 56"/>
            <p:cNvSpPr/>
            <p:nvPr/>
          </p:nvSpPr>
          <p:spPr>
            <a:xfrm>
              <a:off x="342108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Овал 57"/>
            <p:cNvSpPr/>
            <p:nvPr/>
          </p:nvSpPr>
          <p:spPr>
            <a:xfrm>
              <a:off x="329400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Овал 58"/>
            <p:cNvSpPr/>
            <p:nvPr/>
          </p:nvSpPr>
          <p:spPr>
            <a:xfrm>
              <a:off x="2592360" y="6308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Овал 59"/>
            <p:cNvSpPr/>
            <p:nvPr/>
          </p:nvSpPr>
          <p:spPr>
            <a:xfrm>
              <a:off x="189036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Овал 60"/>
            <p:cNvSpPr/>
            <p:nvPr/>
          </p:nvSpPr>
          <p:spPr>
            <a:xfrm>
              <a:off x="176364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Группа 61"/>
          <p:cNvGrpSpPr/>
          <p:nvPr/>
        </p:nvGrpSpPr>
        <p:grpSpPr>
          <a:xfrm>
            <a:off x="5003640" y="5589720"/>
            <a:ext cx="2232360" cy="1079280"/>
            <a:chOff x="5003640" y="5589720"/>
            <a:chExt cx="2232360" cy="1079280"/>
          </a:xfrm>
        </p:grpSpPr>
        <p:sp>
          <p:nvSpPr>
            <p:cNvPr id="143" name="Овал 62"/>
            <p:cNvSpPr/>
            <p:nvPr/>
          </p:nvSpPr>
          <p:spPr>
            <a:xfrm>
              <a:off x="5634000" y="5634000"/>
              <a:ext cx="1025640" cy="5396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Центр координации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Овал 63"/>
            <p:cNvSpPr/>
            <p:nvPr/>
          </p:nvSpPr>
          <p:spPr>
            <a:xfrm>
              <a:off x="666144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Овал 64"/>
            <p:cNvSpPr/>
            <p:nvPr/>
          </p:nvSpPr>
          <p:spPr>
            <a:xfrm>
              <a:off x="653436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Овал 65"/>
            <p:cNvSpPr/>
            <p:nvPr/>
          </p:nvSpPr>
          <p:spPr>
            <a:xfrm>
              <a:off x="5832360" y="630864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Овал 66"/>
            <p:cNvSpPr/>
            <p:nvPr/>
          </p:nvSpPr>
          <p:spPr>
            <a:xfrm>
              <a:off x="5130360" y="606888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Овал 67"/>
            <p:cNvSpPr/>
            <p:nvPr/>
          </p:nvSpPr>
          <p:spPr>
            <a:xfrm>
              <a:off x="5003640" y="5589720"/>
              <a:ext cx="574560" cy="36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О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Двойная стрелка вверх/вниз 68"/>
          <p:cNvGrpSpPr/>
          <p:nvPr/>
        </p:nvGrpSpPr>
        <p:grpSpPr>
          <a:xfrm>
            <a:off x="5870520" y="2749680"/>
            <a:ext cx="433440" cy="2273040"/>
            <a:chOff x="5870520" y="2749680"/>
            <a:chExt cx="433440" cy="2273040"/>
          </a:xfrm>
        </p:grpSpPr>
        <p:pic>
          <p:nvPicPr>
            <p:cNvPr id="150" name="Двойная стрелка вверх/вниз 68" descr=""/>
            <p:cNvPicPr/>
            <p:nvPr/>
          </p:nvPicPr>
          <p:blipFill>
            <a:blip r:embed="rId6"/>
            <a:stretch/>
          </p:blipFill>
          <p:spPr>
            <a:xfrm>
              <a:off x="5870520" y="2749680"/>
              <a:ext cx="433440" cy="22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005520" y="2862360"/>
              <a:ext cx="162000" cy="19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Двойная стрелка вверх/вниз 69"/>
          <p:cNvGrpSpPr/>
          <p:nvPr/>
        </p:nvGrpSpPr>
        <p:grpSpPr>
          <a:xfrm>
            <a:off x="4322880" y="3328920"/>
            <a:ext cx="431640" cy="968400"/>
            <a:chOff x="4322880" y="3328920"/>
            <a:chExt cx="431640" cy="968400"/>
          </a:xfrm>
        </p:grpSpPr>
        <p:pic>
          <p:nvPicPr>
            <p:cNvPr id="153" name="Двойная стрелка вверх/вниз 69" descr=""/>
            <p:cNvPicPr/>
            <p:nvPr/>
          </p:nvPicPr>
          <p:blipFill>
            <a:blip r:embed="rId7"/>
            <a:stretch/>
          </p:blipFill>
          <p:spPr>
            <a:xfrm>
              <a:off x="4322880" y="3328920"/>
              <a:ext cx="4316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454640" y="3438360"/>
              <a:ext cx="1616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2195640" y="2858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кружные ППМС-центры – «Центры координ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"/>
          <p:cNvSpPr/>
          <p:nvPr/>
        </p:nvSpPr>
        <p:spPr>
          <a:xfrm>
            <a:off x="611280" y="1700280"/>
            <a:ext cx="8137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Являются ядром психологического  сопровождения  детей «группы риска» в системе  образования в округ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В центрах могут создаваться отдельные структурные подразделени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ПМПК, ПМПКонсилиу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оказывает первичную и специализированную помощь детям, семь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несовершеннолетни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оказывает научно-методическую помощь руководителям и специалис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образовательных организ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 обеспечивает психолого-педагогическое, социально-педагогическое и      медико-социальное сопровождение детей в 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учрежден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- организует профессиональное взаимодействие и подготовку социальных      педагогов, логопедов, дефектологов, психологов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6"/>
          <p:cNvSpPr/>
          <p:nvPr/>
        </p:nvSpPr>
        <p:spPr>
          <a:xfrm>
            <a:off x="4071960" y="35712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39"/>
          <p:cNvSpPr/>
          <p:nvPr/>
        </p:nvSpPr>
        <p:spPr>
          <a:xfrm>
            <a:off x="468360" y="1268280"/>
            <a:ext cx="755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казания необходимой ППМС помощи обучающимся, испытывающим трудности в освоении основных общеобразовательных программ, развитии и социальной адаптации, образовательные организации, ППМС-центры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огут организовать предоставление услуг квалифицированных специалистов иных организаций социальной сф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рганизаций здравоохранения, социальной политики, службы занятости населения, иных организаций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соответствии с установленным для таких учреждений порядком, условиями предоставления усл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совершеннолетним гражданам, либо на основании соглашений о взаимодейств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1"/>
          <p:cNvSpPr/>
          <p:nvPr/>
        </p:nvSpPr>
        <p:spPr>
          <a:xfrm>
            <a:off x="1908000" y="11592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жведомственное взаимодействие при оказании психолого-педагогической, медицинской и социальн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5"/>
          <p:cNvSpPr/>
          <p:nvPr/>
        </p:nvSpPr>
        <p:spPr>
          <a:xfrm>
            <a:off x="109548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6"/>
          <p:cNvSpPr/>
          <p:nvPr/>
        </p:nvSpPr>
        <p:spPr>
          <a:xfrm>
            <a:off x="4071960" y="357120"/>
            <a:ext cx="45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39"/>
          <p:cNvSpPr/>
          <p:nvPr/>
        </p:nvSpPr>
        <p:spPr>
          <a:xfrm>
            <a:off x="468360" y="1268280"/>
            <a:ext cx="828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 19. На официальных сайтах в сети ИНТЕРНЕТ регионального ППМС – центра и муниципальных ППМС–центров, организаций, осуществляющих образовательную деятельность, создаются специальные разделы, предоставляющи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информацию об услугах, порядке, условиях их предоставления и контактной информации организаций (независимо от их ведомственной принадлежности), оказывающих психолого-педагогическую помощь, медицинские и социальные услуги несовершеннолетним граждан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их родителям. Данная информация также размещается на стендах (мониторах) общего доступа в   организациях, осуществляющих образо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1"/>
          <p:cNvSpPr/>
          <p:nvPr/>
        </p:nvSpPr>
        <p:spPr>
          <a:xfrm>
            <a:off x="1908000" y="11592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формационное поле психолого-педагогической, медицинской и социальн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1095480" y="395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bueva Ирина</dc:creator>
  <dc:description/>
  <dc:language>en-US</dc:language>
  <cp:lastModifiedBy>name</cp:lastModifiedBy>
  <dcterms:modified xsi:type="dcterms:W3CDTF">2015-09-16T04:56:41Z</dcterms:modified>
  <cp:revision>3318</cp:revision>
  <dc:subject/>
  <dc:title>Итоги СЭР СО</dc:title>
</cp:coreProperties>
</file>