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ADD-5CFF-40AD-9200-A929401C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098-4154-4ABD-B9FB-00E551E5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296-9D1F-470D-8EA0-93296ABE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B9C1-F73D-4D8B-8F21-2D54B106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4344-A438-4C57-97A0-3E3954FB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9C48-B0B0-4A86-8BBD-92773494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BA96-BED4-449D-B1F3-FE24D0BF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A08E-CBD1-4487-9500-EF48CEE1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2757-5E99-43FB-B6B4-983DF4DC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CEE1-68E0-45AD-9672-4EC6C5A0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898F-89FD-4FF9-8ED9-F28B0A0B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31B-E8CE-4AAB-8C24-1C448D37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3958-6082-4E92-B510-64F2BEF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D186-E7F7-45DF-8909-14A515F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B5CD-AE42-4600-AE5D-5432E784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0BC9-6048-4D8A-AE0E-7018D5BF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821F-8C71-4458-A8CC-C2365AA0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A8F-BD18-4050-B2AF-27A8AF58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9F8-8106-4852-BC7E-F465184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B88-FBFA-41EA-B79C-E489FF90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222-DB6F-49B6-9F6C-599EAF1C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7E8-113E-4F46-9751-7AB26031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D70-FEC0-40A8-9AC4-217C0E4B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893-FD52-4C2D-8A09-7ED68C56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776A-8788-405B-9257-81D9EB77F4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A10B-4317-4C3C-A8D0-1E90CB97FE0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Garamond"/>
              </a:rPr>
              <a:t>О профилактике жестокого обращения в отношении несовершеннолетних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340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еминар-совещание с органами местного самоуправления, осуществляющими управление в сфере образова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5:01:39Z</dcterms:created>
  <dc:creator>name</dc:creator>
  <dc:description/>
  <dc:language>en-US</dc:language>
  <cp:lastModifiedBy>name</cp:lastModifiedBy>
  <dcterms:modified xsi:type="dcterms:W3CDTF">2015-09-16T07:24:30Z</dcterms:modified>
  <cp:revision>2</cp:revision>
  <dc:subject/>
  <dc:title>О профилактике жестокого обращения в отношении несовершеннолетних</dc:title>
</cp:coreProperties>
</file>