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3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8840" y="94453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0CF-3C26-41EF-B915-F3E5D0685A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9200" y="944568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902A-5BDD-40D0-AF42-EF7479EDED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6A4-9EB5-4692-9E30-9945A1A4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9A6-CED0-4570-B7FE-80444D8C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CA1-1897-43B9-983E-12C533AD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57D-F8B8-44B3-9297-A965FB50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266-BEAE-4BB8-AC90-7ABF4C8E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42C7-05C4-46C5-B9DE-1459C193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39AD-55CF-4131-BA6D-D4E32D3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4A17-D42F-45C9-BFCA-C836B29C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3A50-52F0-4DC5-9A85-287977C3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AF19-1A24-4FF5-9D79-366F5D4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ED6-C2C1-4DC9-95E9-42B0BE0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572-9A5F-4327-A7BB-CC0ECEBE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79A-76B0-4447-AAA5-B3BF16A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683-391D-449D-9AF6-FADFF8D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FA8D-588C-4AB0-BFFB-25CA5B8B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DEF-8A00-4030-9545-60AA00E7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FF98-0C7F-42B8-AC00-836ADD5F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4DA-25A7-492C-A29A-413A2DA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3F2-A489-4E89-922C-8209B8A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B6A-6B54-427A-9288-61675DD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85F-67DA-4D4C-BB9D-4D37409B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225-35A9-4564-B6DF-6ED3C43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CB8-75D7-4DC0-91F5-7817DD3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CDF-38E2-4C66-8836-133610E0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2C23-4F6A-48E7-A579-EBE3DAE214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74B-74E6-4B2F-8BE7-526C38DA0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46B-9FEA-4BEE-B4F9-74B5584E53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C15D-AA3F-4A5C-AE50-EBC34538BD59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214800" y="600084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071960" y="40006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Заместитель начальника отдела государственного воспитания и коррекции, руководитель ЦПМПК Деникаева Ольга Валериановна</a:t>
            </a:r>
            <a:r>
              <a:rPr b="0" i="1" lang="en-US" sz="2000" spc="-1" strike="noStrike">
                <a:solidFill>
                  <a:srgbClr val="1f497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89000" y="1427040"/>
            <a:ext cx="8723160" cy="2578320"/>
            <a:chOff x="189000" y="1427040"/>
            <a:chExt cx="8723160" cy="257832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89000" y="1427040"/>
              <a:ext cx="8723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2680" y="1617840"/>
              <a:ext cx="8334360" cy="21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Об организации психолого-педагогической, медицинской и социальной помощи  обучающимся, испытывающим трудности в освоении образовательных программ, развитии и социальной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"/>
          <p:cNvSpPr/>
          <p:nvPr/>
        </p:nvSpPr>
        <p:spPr>
          <a:xfrm>
            <a:off x="1208160" y="150840"/>
            <a:ext cx="73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Прямая со стрелкой 40"/>
          <p:cNvCxnSpPr>
            <a:stCxn id="166" idx="2"/>
          </p:cNvCxnSpPr>
          <p:nvPr/>
        </p:nvCxnSpPr>
        <p:spPr>
          <a:xfrm>
            <a:off x="6071760" y="5535360"/>
            <a:ext cx="1080" cy="77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7" name="Прямоугольник 7"/>
          <p:cNvSpPr/>
          <p:nvPr/>
        </p:nvSpPr>
        <p:spPr>
          <a:xfrm>
            <a:off x="7380360" y="4714920"/>
            <a:ext cx="1549440" cy="128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Центры координации» в округах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8"/>
          <p:cNvSpPr/>
          <p:nvPr/>
        </p:nvSpPr>
        <p:spPr>
          <a:xfrm rot="10800000">
            <a:off x="6870240" y="5702400"/>
            <a:ext cx="514440" cy="357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284120" y="2541600"/>
            <a:ext cx="221472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сихолого-педагогические вузы, Федерация психологов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12"/>
          <p:cNvSpPr/>
          <p:nvPr/>
        </p:nvSpPr>
        <p:spPr>
          <a:xfrm>
            <a:off x="3500280" y="292896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13"/>
          <p:cNvSpPr/>
          <p:nvPr/>
        </p:nvSpPr>
        <p:spPr>
          <a:xfrm rot="18971400">
            <a:off x="3536640" y="406044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886040" y="5535720"/>
            <a:ext cx="2703600" cy="52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ме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лево 14"/>
          <p:cNvSpPr/>
          <p:nvPr/>
        </p:nvSpPr>
        <p:spPr>
          <a:xfrm rot="16200000">
            <a:off x="5095080" y="4048920"/>
            <a:ext cx="882720" cy="3571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лево 15"/>
          <p:cNvSpPr/>
          <p:nvPr/>
        </p:nvSpPr>
        <p:spPr>
          <a:xfrm rot="13287000">
            <a:off x="7455960" y="4006440"/>
            <a:ext cx="1482840" cy="357120"/>
          </a:xfrm>
          <a:prstGeom prst="leftArrow">
            <a:avLst>
              <a:gd name="adj1" fmla="val 54759"/>
              <a:gd name="adj2" fmla="val 5001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496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Модель организации взаимодействия  учреждений образования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в системе  психолого-педагогической , медицинской и социальной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249200" y="1413000"/>
            <a:ext cx="757080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развития психолого-педагогической , медицинской и социальной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000680" y="2571840"/>
            <a:ext cx="2286000" cy="14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щего 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6595920" y="2571840"/>
            <a:ext cx="242892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СО ЦППРиК «Ла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214960" y="4714920"/>
            <a:ext cx="1714320" cy="820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МС-центры дей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трелка вверх 10" descr=""/>
          <p:cNvPicPr/>
          <p:nvPr/>
        </p:nvPicPr>
        <p:blipFill>
          <a:blip r:embed="rId2"/>
          <a:stretch/>
        </p:blipFill>
        <p:spPr>
          <a:xfrm>
            <a:off x="-30240" y="1554120"/>
            <a:ext cx="113364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лево 11"/>
          <p:cNvSpPr/>
          <p:nvPr/>
        </p:nvSpPr>
        <p:spPr>
          <a:xfrm>
            <a:off x="428760" y="4929120"/>
            <a:ext cx="1393560" cy="1071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стрелка влево/вправо 16"/>
          <p:cNvSpPr/>
          <p:nvPr/>
        </p:nvSpPr>
        <p:spPr>
          <a:xfrm>
            <a:off x="6072120" y="300024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4bacc6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стрелка влево/вправо 19"/>
          <p:cNvSpPr/>
          <p:nvPr/>
        </p:nvSpPr>
        <p:spPr>
          <a:xfrm>
            <a:off x="6810480" y="49356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лево/вправо 20"/>
          <p:cNvSpPr/>
          <p:nvPr/>
        </p:nvSpPr>
        <p:spPr>
          <a:xfrm>
            <a:off x="4527720" y="48402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лево/вправо 21"/>
          <p:cNvSpPr/>
          <p:nvPr/>
        </p:nvSpPr>
        <p:spPr>
          <a:xfrm rot="6998400">
            <a:off x="6296040" y="428364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2"/>
          <p:cNvSpPr/>
          <p:nvPr/>
        </p:nvSpPr>
        <p:spPr>
          <a:xfrm>
            <a:off x="4500720" y="2320920"/>
            <a:ext cx="1285560" cy="17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5214960" y="5689440"/>
            <a:ext cx="17114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.ор-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стрелка влево/вправо 24"/>
          <p:cNvSpPr/>
          <p:nvPr/>
        </p:nvSpPr>
        <p:spPr>
          <a:xfrm>
            <a:off x="4538520" y="5695920"/>
            <a:ext cx="714600" cy="28584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897200" y="4668840"/>
            <a:ext cx="26035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ранней помощ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стрелка влево/вправо 26"/>
          <p:cNvSpPr/>
          <p:nvPr/>
        </p:nvSpPr>
        <p:spPr>
          <a:xfrm rot="18883200">
            <a:off x="1056240" y="4356720"/>
            <a:ext cx="1255680" cy="324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3551400" y="5245200"/>
            <a:ext cx="89208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29"/>
          <p:cNvCxnSpPr>
            <a:stCxn id="190" idx="3"/>
            <a:endCxn id="166" idx="1"/>
          </p:cNvCxnSpPr>
          <p:nvPr/>
        </p:nvCxnSpPr>
        <p:spPr>
          <a:xfrm flipV="1">
            <a:off x="4443120" y="5125680"/>
            <a:ext cx="772200" cy="3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2" name="Прямая со стрелкой 33"/>
          <p:cNvCxnSpPr/>
          <p:nvPr/>
        </p:nvCxnSpPr>
        <p:spPr>
          <a:xfrm>
            <a:off x="4443120" y="5465520"/>
            <a:ext cx="77220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3" name="Прямоугольник 36"/>
          <p:cNvSpPr/>
          <p:nvPr/>
        </p:nvSpPr>
        <p:spPr>
          <a:xfrm rot="16200000">
            <a:off x="4829040" y="2795760"/>
            <a:ext cx="478080" cy="7503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реждения других ведом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38"/>
          <p:cNvCxnSpPr/>
          <p:nvPr/>
        </p:nvCxnSpPr>
        <p:spPr>
          <a:xfrm>
            <a:off x="3498480" y="6059520"/>
            <a:ext cx="13716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Прямая со стрелкой 42"/>
          <p:cNvCxnSpPr/>
          <p:nvPr/>
        </p:nvCxnSpPr>
        <p:spPr>
          <a:xfrm flipH="1">
            <a:off x="5357520" y="6059520"/>
            <a:ext cx="1800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Двойная стрелка вверх/вниз 43"/>
          <p:cNvSpPr/>
          <p:nvPr/>
        </p:nvSpPr>
        <p:spPr>
          <a:xfrm>
            <a:off x="7810560" y="5923080"/>
            <a:ext cx="485640" cy="62532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71680" y="28576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БЛАГОДАР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ЗА 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771640" y="260280"/>
            <a:ext cx="59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24000" y="1341360"/>
            <a:ext cx="856908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42 «Организация психолого-педагогической, медицинской и социальной помощи обучающимся, испытывающим трудности в освоении образовательных программ, развитии и социальной адаптации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оказывается детям, испытывающим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трудности в освоении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основных общеобразовательных программ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развит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и социальной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адаптац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том числе несовершеннолетним обучающимся, признанным в случаях и в порядке, которые предусмотрены </a:t>
            </a:r>
            <a:r>
              <a:rPr b="0" lang="ru-RU" sz="2000" spc="-1" strike="noStrike">
                <a:solidFill>
                  <a:srgbClr val="000000"/>
                </a:solidFill>
                <a:latin typeface="roboto"/>
              </a:rPr>
              <a:t>уголовно-процессуальным законодательством, подозреваемыми, обвиняемыми или подсудимыми по уголовному делу либо являющимся потерпевшими или свидетелями преступления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центрах психолого-педагогической, медицинской и социальной помощ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создаваемых органами государственной власти субъектов Российской Федерации, а также психологами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педагогами-психологами организаций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осуществляющих образовательную деятельность, в которых такие дети обуч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771640" y="260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, статья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24000" y="1268280"/>
            <a:ext cx="856908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включает в себ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1) психолого-педагогическое консультирование обучающихся, их родителей (законных представителей) и педагогических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2) коррекционно-развивающие и компенсирующие занятия с обучающимися, логопедическую помощь обучаю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3) комплекс реабилитационных и других медицинских мероприят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4) помощь обучающимся в профориентации, получении профессии и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7040" y="404280"/>
            <a:ext cx="6913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номочия Свердл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162864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щего и профессионального образования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5.06.2015 № 283-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, в организациях, осуществляющих образовательную деятельность, расположенных на территории Свердлов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Приказ Министерства общего и профессионального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образования Свердловской области от 25.06.2015 № 283-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61EC-60D7-4588-B82A-4883ABECA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84360" y="1276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3. ППМС-центры, создаются Правительством Свердловской области  как самостоятельн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юридические 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ные подразделения государственных организ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й Свердловской области, осуществляющих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4.  Министерство общего и профессионального образования Свердловской области (далее – Министерство образования) определ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осударственное учреждение Свердловской области, выполняющее функции регионального ППМС–цен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5. ППМС-центры могут создаваться органами местного самоуправления муниципальных образований. Деятельность муниципальных ППМС–центров регламентируется органами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5" descr=""/>
          <p:cNvPicPr/>
          <p:nvPr/>
        </p:nvPicPr>
        <p:blipFill>
          <a:blip r:embed="rId2"/>
          <a:stretch/>
        </p:blipFill>
        <p:spPr>
          <a:xfrm>
            <a:off x="1859040" y="1268280"/>
            <a:ext cx="6072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99"/>
          <p:cNvGrpSpPr/>
          <p:nvPr/>
        </p:nvGrpSpPr>
        <p:grpSpPr>
          <a:xfrm>
            <a:off x="250920" y="4041720"/>
            <a:ext cx="2233440" cy="1079640"/>
            <a:chOff x="250920" y="4041720"/>
            <a:chExt cx="2233440" cy="1079640"/>
          </a:xfrm>
        </p:grpSpPr>
        <p:sp>
          <p:nvSpPr>
            <p:cNvPr id="106" name="Овал 100"/>
            <p:cNvSpPr/>
            <p:nvPr/>
          </p:nvSpPr>
          <p:spPr>
            <a:xfrm>
              <a:off x="880920" y="4086000"/>
              <a:ext cx="102708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01"/>
            <p:cNvSpPr/>
            <p:nvPr/>
          </p:nvSpPr>
          <p:spPr>
            <a:xfrm>
              <a:off x="190980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102"/>
            <p:cNvSpPr/>
            <p:nvPr/>
          </p:nvSpPr>
          <p:spPr>
            <a:xfrm>
              <a:off x="178272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103"/>
            <p:cNvSpPr/>
            <p:nvPr/>
          </p:nvSpPr>
          <p:spPr>
            <a:xfrm>
              <a:off x="1081080" y="4761000"/>
              <a:ext cx="57312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04"/>
            <p:cNvSpPr/>
            <p:nvPr/>
          </p:nvSpPr>
          <p:spPr>
            <a:xfrm>
              <a:off x="3776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05"/>
            <p:cNvSpPr/>
            <p:nvPr/>
          </p:nvSpPr>
          <p:spPr>
            <a:xfrm>
              <a:off x="2509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Двойная стрелка вверх/вниз 116"/>
          <p:cNvGrpSpPr/>
          <p:nvPr/>
        </p:nvGrpSpPr>
        <p:grpSpPr>
          <a:xfrm>
            <a:off x="2664000" y="2724120"/>
            <a:ext cx="433080" cy="2268720"/>
            <a:chOff x="2664000" y="2724120"/>
            <a:chExt cx="433080" cy="2268720"/>
          </a:xfrm>
        </p:grpSpPr>
        <p:pic>
          <p:nvPicPr>
            <p:cNvPr id="113" name="Двойная стрелка вверх/вниз 116" descr=""/>
            <p:cNvPicPr/>
            <p:nvPr/>
          </p:nvPicPr>
          <p:blipFill>
            <a:blip r:embed="rId3"/>
            <a:stretch/>
          </p:blipFill>
          <p:spPr>
            <a:xfrm>
              <a:off x="2664000" y="2724120"/>
              <a:ext cx="433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98640" y="2836800"/>
              <a:ext cx="16200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Двойная стрелка вверх/вниз 117"/>
          <p:cNvGrpSpPr/>
          <p:nvPr/>
        </p:nvGrpSpPr>
        <p:grpSpPr>
          <a:xfrm>
            <a:off x="7223040" y="3419640"/>
            <a:ext cx="530280" cy="529920"/>
            <a:chOff x="7223040" y="3419640"/>
            <a:chExt cx="530280" cy="529920"/>
          </a:xfrm>
        </p:grpSpPr>
        <p:pic>
          <p:nvPicPr>
            <p:cNvPr id="116" name="Двойная стрелка вверх/вниз 117" descr=""/>
            <p:cNvPicPr/>
            <p:nvPr/>
          </p:nvPicPr>
          <p:blipFill>
            <a:blip r:embed="rId4"/>
            <a:stretch/>
          </p:blipFill>
          <p:spPr>
            <a:xfrm>
              <a:off x="722304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827400">
              <a:off x="7430400" y="350856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Двойная стрелка вверх/вниз 118"/>
          <p:cNvGrpSpPr/>
          <p:nvPr/>
        </p:nvGrpSpPr>
        <p:grpSpPr>
          <a:xfrm>
            <a:off x="1390680" y="3419640"/>
            <a:ext cx="530280" cy="529920"/>
            <a:chOff x="1390680" y="3419640"/>
            <a:chExt cx="530280" cy="529920"/>
          </a:xfrm>
        </p:grpSpPr>
        <p:pic>
          <p:nvPicPr>
            <p:cNvPr id="119" name="Двойная стрелка вверх/вниз 118" descr=""/>
            <p:cNvPicPr/>
            <p:nvPr/>
          </p:nvPicPr>
          <p:blipFill>
            <a:blip r:embed="rId5"/>
            <a:stretch/>
          </p:blipFill>
          <p:spPr>
            <a:xfrm>
              <a:off x="139068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2810400">
              <a:off x="1595880" y="350892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6"/>
          <p:cNvGrpSpPr/>
          <p:nvPr/>
        </p:nvGrpSpPr>
        <p:grpSpPr>
          <a:xfrm>
            <a:off x="6516720" y="4041720"/>
            <a:ext cx="2232000" cy="1079640"/>
            <a:chOff x="6516720" y="4041720"/>
            <a:chExt cx="2232000" cy="1079640"/>
          </a:xfrm>
        </p:grpSpPr>
        <p:sp>
          <p:nvSpPr>
            <p:cNvPr id="122" name="Овал 37"/>
            <p:cNvSpPr/>
            <p:nvPr/>
          </p:nvSpPr>
          <p:spPr>
            <a:xfrm>
              <a:off x="7146720" y="4086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8"/>
            <p:cNvSpPr/>
            <p:nvPr/>
          </p:nvSpPr>
          <p:spPr>
            <a:xfrm>
              <a:off x="817416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39"/>
            <p:cNvSpPr/>
            <p:nvPr/>
          </p:nvSpPr>
          <p:spPr>
            <a:xfrm>
              <a:off x="804708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42"/>
            <p:cNvSpPr/>
            <p:nvPr/>
          </p:nvSpPr>
          <p:spPr>
            <a:xfrm>
              <a:off x="7345440" y="47610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44"/>
            <p:cNvSpPr/>
            <p:nvPr/>
          </p:nvSpPr>
          <p:spPr>
            <a:xfrm>
              <a:off x="66434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Овал 45"/>
            <p:cNvSpPr/>
            <p:nvPr/>
          </p:nvSpPr>
          <p:spPr>
            <a:xfrm>
              <a:off x="65167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46"/>
          <p:cNvGrpSpPr/>
          <p:nvPr/>
        </p:nvGrpSpPr>
        <p:grpSpPr>
          <a:xfrm>
            <a:off x="3419640" y="4292640"/>
            <a:ext cx="2232000" cy="1081080"/>
            <a:chOff x="3419640" y="4292640"/>
            <a:chExt cx="2232000" cy="1081080"/>
          </a:xfrm>
        </p:grpSpPr>
        <p:sp>
          <p:nvSpPr>
            <p:cNvPr id="129" name="Овал 47"/>
            <p:cNvSpPr/>
            <p:nvPr/>
          </p:nvSpPr>
          <p:spPr>
            <a:xfrm>
              <a:off x="4049640" y="4336920"/>
              <a:ext cx="1025640" cy="541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48"/>
            <p:cNvSpPr/>
            <p:nvPr/>
          </p:nvSpPr>
          <p:spPr>
            <a:xfrm>
              <a:off x="507708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9"/>
            <p:cNvSpPr/>
            <p:nvPr/>
          </p:nvSpPr>
          <p:spPr>
            <a:xfrm>
              <a:off x="495000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50"/>
            <p:cNvSpPr/>
            <p:nvPr/>
          </p:nvSpPr>
          <p:spPr>
            <a:xfrm>
              <a:off x="4248360" y="501336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51"/>
            <p:cNvSpPr/>
            <p:nvPr/>
          </p:nvSpPr>
          <p:spPr>
            <a:xfrm>
              <a:off x="354636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52"/>
            <p:cNvSpPr/>
            <p:nvPr/>
          </p:nvSpPr>
          <p:spPr>
            <a:xfrm>
              <a:off x="341964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54"/>
          <p:cNvGrpSpPr/>
          <p:nvPr/>
        </p:nvGrpSpPr>
        <p:grpSpPr>
          <a:xfrm>
            <a:off x="1763640" y="5589720"/>
            <a:ext cx="2232000" cy="1079280"/>
            <a:chOff x="1763640" y="5589720"/>
            <a:chExt cx="2232000" cy="1079280"/>
          </a:xfrm>
        </p:grpSpPr>
        <p:sp>
          <p:nvSpPr>
            <p:cNvPr id="136" name="Овал 55"/>
            <p:cNvSpPr/>
            <p:nvPr/>
          </p:nvSpPr>
          <p:spPr>
            <a:xfrm>
              <a:off x="239364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56"/>
            <p:cNvSpPr/>
            <p:nvPr/>
          </p:nvSpPr>
          <p:spPr>
            <a:xfrm>
              <a:off x="342108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57"/>
            <p:cNvSpPr/>
            <p:nvPr/>
          </p:nvSpPr>
          <p:spPr>
            <a:xfrm>
              <a:off x="329400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58"/>
            <p:cNvSpPr/>
            <p:nvPr/>
          </p:nvSpPr>
          <p:spPr>
            <a:xfrm>
              <a:off x="259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Овал 59"/>
            <p:cNvSpPr/>
            <p:nvPr/>
          </p:nvSpPr>
          <p:spPr>
            <a:xfrm>
              <a:off x="189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Овал 60"/>
            <p:cNvSpPr/>
            <p:nvPr/>
          </p:nvSpPr>
          <p:spPr>
            <a:xfrm>
              <a:off x="176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61"/>
          <p:cNvGrpSpPr/>
          <p:nvPr/>
        </p:nvGrpSpPr>
        <p:grpSpPr>
          <a:xfrm>
            <a:off x="5003640" y="5589720"/>
            <a:ext cx="2232360" cy="1079280"/>
            <a:chOff x="5003640" y="5589720"/>
            <a:chExt cx="2232360" cy="1079280"/>
          </a:xfrm>
        </p:grpSpPr>
        <p:sp>
          <p:nvSpPr>
            <p:cNvPr id="143" name="Овал 62"/>
            <p:cNvSpPr/>
            <p:nvPr/>
          </p:nvSpPr>
          <p:spPr>
            <a:xfrm>
              <a:off x="563400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Овал 63"/>
            <p:cNvSpPr/>
            <p:nvPr/>
          </p:nvSpPr>
          <p:spPr>
            <a:xfrm>
              <a:off x="66614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64"/>
            <p:cNvSpPr/>
            <p:nvPr/>
          </p:nvSpPr>
          <p:spPr>
            <a:xfrm>
              <a:off x="6534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65"/>
            <p:cNvSpPr/>
            <p:nvPr/>
          </p:nvSpPr>
          <p:spPr>
            <a:xfrm>
              <a:off x="583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66"/>
            <p:cNvSpPr/>
            <p:nvPr/>
          </p:nvSpPr>
          <p:spPr>
            <a:xfrm>
              <a:off x="513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Овал 67"/>
            <p:cNvSpPr/>
            <p:nvPr/>
          </p:nvSpPr>
          <p:spPr>
            <a:xfrm>
              <a:off x="500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Двойная стрелка вверх/вниз 68"/>
          <p:cNvGrpSpPr/>
          <p:nvPr/>
        </p:nvGrpSpPr>
        <p:grpSpPr>
          <a:xfrm>
            <a:off x="5870520" y="2749680"/>
            <a:ext cx="433440" cy="2273040"/>
            <a:chOff x="5870520" y="2749680"/>
            <a:chExt cx="433440" cy="2273040"/>
          </a:xfrm>
        </p:grpSpPr>
        <p:pic>
          <p:nvPicPr>
            <p:cNvPr id="150" name="Двойная стрелка вверх/вниз 68" descr=""/>
            <p:cNvPicPr/>
            <p:nvPr/>
          </p:nvPicPr>
          <p:blipFill>
            <a:blip r:embed="rId6"/>
            <a:stretch/>
          </p:blipFill>
          <p:spPr>
            <a:xfrm>
              <a:off x="5870520" y="2749680"/>
              <a:ext cx="433440" cy="22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05520" y="2862360"/>
              <a:ext cx="162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Двойная стрелка вверх/вниз 69"/>
          <p:cNvGrpSpPr/>
          <p:nvPr/>
        </p:nvGrpSpPr>
        <p:grpSpPr>
          <a:xfrm>
            <a:off x="4322880" y="3328920"/>
            <a:ext cx="431640" cy="968400"/>
            <a:chOff x="4322880" y="3328920"/>
            <a:chExt cx="431640" cy="968400"/>
          </a:xfrm>
        </p:grpSpPr>
        <p:pic>
          <p:nvPicPr>
            <p:cNvPr id="153" name="Двойная стрелка вверх/вниз 69" descr=""/>
            <p:cNvPicPr/>
            <p:nvPr/>
          </p:nvPicPr>
          <p:blipFill>
            <a:blip r:embed="rId7"/>
            <a:stretch/>
          </p:blipFill>
          <p:spPr>
            <a:xfrm>
              <a:off x="4322880" y="3328920"/>
              <a:ext cx="4316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54640" y="3438360"/>
              <a:ext cx="161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2195640" y="285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ные ППМС-центры – «Центры коорди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611280" y="17002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вляются ядром психологического  сопровождения  детей «группы риска» в системе  образования в округ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ах могут создаваться отдельные структурные подразд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МПК, ПМПКонсили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первичную и специализированную помощь детям, сем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научно-методическую помощь руководителям и специалис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 обеспечивает психолого-педагогическое, социально-педагогическое и      медико-социальное сопровождение детей 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рганизует профессиональное взаимодействие и подготовку социальных      педагогов, логопедов, дефектологов, психолог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9"/>
          <p:cNvSpPr/>
          <p:nvPr/>
        </p:nvSpPr>
        <p:spPr>
          <a:xfrm>
            <a:off x="468360" y="1268280"/>
            <a:ext cx="755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казания необходимой ППМС помощи обучающимся, испытывающим трудности в освоении основных общеобразовательных программ, развитии и социальной адаптации, образовательные организации, ППМС-центры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гут организовать предоставление услуг квалифицированных специалистов иных организаций социаль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рганизаций здравоохранения, социальной политики, службы занятости населения, иных организаций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оответствии с установленным для таких учреждений порядком, условиями предоставлени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овершеннолетним гражданам, либо на основании соглашений о взаимодей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жведомственное взаимодействие при оказании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39"/>
          <p:cNvSpPr/>
          <p:nvPr/>
        </p:nvSpPr>
        <p:spPr>
          <a:xfrm>
            <a:off x="468360" y="1268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19. На официальных сайтах в сети ИНТЕРНЕТ регионального ППМС – центра и муниципальных ППМС–центров, организаций, осуществляющих образовательную деятельность, создаются специальные разделы, предоставляющ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 об услугах, порядке, условиях их предоставления и контактной информации организаций (независимо от их ведомственной принадлежности), оказывающих психолого-педагогическую помощь, медицинские и социальные услуги несовершеннолетним граждан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х родителям. Данная информация также размещается на стендах (мониторах) общего доступа в   организациях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онное поле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bueva Ирина</dc:creator>
  <dc:description/>
  <dc:language>en-US</dc:language>
  <cp:lastModifiedBy>name</cp:lastModifiedBy>
  <dcterms:modified xsi:type="dcterms:W3CDTF">2015-09-16T04:56:41Z</dcterms:modified>
  <cp:revision>3318</cp:revision>
  <dc:subject/>
  <dc:title>Итоги СЭР СО</dc:title>
</cp:coreProperties>
</file>